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6B8-9246-4A7E-ADA4-7421F751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02E-A2AB-44D9-BBD1-30EC71CC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C0F-5702-4D66-82C0-015F55F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137-AA0E-4BBA-9D4D-D0E27D89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FF6D-C5FE-48BD-B9E2-3B6EEBB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480-57DD-4F76-8D6E-72F9D8E7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0C9-00D3-4713-86B2-4248E890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6D57-D2B5-4019-9B95-40ABD24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0601-96C8-43A7-8AC7-5F7166D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8963-E7A8-4C12-9BFB-FBE5658C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F29B-2B97-4DC6-9168-2A47908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245-A8A3-4A16-8448-FE890730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7ED0-0DE4-4607-AECF-9F290D2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F7B-00FE-487D-9958-7E0BCF2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25C-1AB9-4104-995C-8DAFB68C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A7F9-ABD0-4A65-A41C-7D761DDF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841-543A-4E2A-BAA1-0DC72B56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9AC5-2067-4D1F-9D4E-D958BF38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6553-558C-44FA-AAF2-0A06A565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261E-98CB-42F9-B953-60FA356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C556-66A5-4754-8124-3B1C57BA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31BC-B236-4842-A277-BDC6A4E6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746-BB25-4B80-952B-531DBEB6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F52A-DB35-43DF-9EE8-C7C6C05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3DA4-3DD4-4970-981D-F0A966D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B151-1144-4413-AC1E-866729B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075C-4470-4B73-9C97-6BBA6DC0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AE78-C60D-4A88-90C5-A1CE8056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618E-465A-4495-8337-4AFB62D5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01F5-D7FF-4DBC-AF9A-E46094A5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F220-91F3-4886-96B6-F44DB5E9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C61D-63C9-4F7B-9126-A80A0540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3754-D78A-442B-8E5C-33BF3F3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82B-B0C9-42FE-9D3B-1F883114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6E97-6CA1-483B-B5F1-78271D85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E3A4-C0EB-4C6E-B089-0F8A33E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B184-BF0A-49A4-BC33-C8B30D22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9947-F887-4964-840A-8B370DD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A48D-BD9E-49B4-87F3-9957F02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F13B-1FB5-4016-86DF-886A0AFB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E549-CF71-4A50-81B9-6457539E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158D-107F-4B3E-8E74-4E3972A8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1584-B7DC-4C28-B3E3-4983D540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3740-54DF-4DC7-97FD-67AA6440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60A-2CD9-4FAF-B2C3-DC7C0B4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ADD0-71E0-430F-9F43-3F4AADD8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B78A3-55F2-4B1C-B006-F0A4BA7A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1B7E0-81F3-4161-89C8-DC2E0F3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33D7-9097-4B29-900B-5F0A925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3A9A9-6792-4F99-8E96-263EC033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52B2A-2B5E-4F20-88D7-C90E73A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41CA6-2F55-42A2-95F8-22851FC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98D6-9867-4363-A198-6A71971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8AAC-4354-4584-9E0B-465386E2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CA52-8E50-4282-8A64-998F2C34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850-1F97-49CE-81BC-AFF99714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FB07-2DB2-4723-8E43-2C5BC444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FA2-96D2-44C7-BFE5-51FADA6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64A-49BA-4525-95F7-16FF8C0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AF9-169D-4296-91A2-28D90CF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941E-80FE-41DE-A3BB-0DE9CC5C6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1C8-39C7-4585-B24F-81520F853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2AF-8D68-4CBD-A106-4E578C2DA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F84-B58C-4068-A215-74B47CA76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6971-79EF-4F96-A2FC-8D9060896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condensation+on+a+glass&amp;source=images&amp;cd=&amp;cad=rja&amp;docid=yJ5k6q3ow2XD-M&amp;tbnid=hsbntimOf4w2cM:&amp;ved=0CAUQjRw&amp;url=http%3A%2F%2Fwww.scottslumber.com%2Fservices%2Fwindow-condensation-are-my-windows-defective%2F&amp;ei=w32rUY-_EcfH0QHPmoHQBQ&amp;bvm=bv.47244034,d.dmg&amp;psig=AFQjCNFgD-8pVEb0L9lFV5IfGKCA1wZUnA&amp;ust=1370279667723115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url?sa=i&amp;rct=j&amp;q=condensation+on+a+glass&amp;source=images&amp;cd=&amp;cad=rja&amp;docid=yAqIA64FOTrWNM&amp;tbnid=-j_VUuUZn2dUEM:&amp;ved=0CAUQjRw&amp;url=http%3A%2F%2Fwww.nc-climate.ncsu.edu%2Fedu%2Fk12%2FWhyCloudsForm%2Fbody&amp;ei=cn6rUcntB6nj0QGNroGADg&amp;bvm=bv.47244034,d.dmg&amp;psig=AFQjCNFgD-8pVEb0L9lFV5IfGKCA1wZUnA&amp;ust=1370279667723115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2533c"/>
                </a:solidFill>
                <a:latin typeface="BrowalliaUPC"/>
                <a:ea typeface="BrowalliaUPC"/>
              </a:rPr>
              <a:t>CHAPTER 17</a:t>
            </a:r>
            <a:endParaRPr b="0" lang="en-US" sz="7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76e"/>
                </a:solidFill>
                <a:latin typeface="BrowalliaUPC"/>
                <a:ea typeface="BrowalliaUPC"/>
              </a:rPr>
              <a:t>THERMOCHEMISTRY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XAMPLE PROBLEM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following acid-base reaction is performed in a coffee cup calorimeter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+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aq) + O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aq) --&gt; 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(l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55mL of water containing 0.1mol of HCl and 55mL of water containing 0.1mol of NaOH are combined in a calorimet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temperature of the water rises from 25.0°C to 26.2°C when 0.10 mol  of each substance rea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wate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BrowalliaUPC"/>
              </a:rPr>
              <a:t>Δ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 for the reac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BrowalliaUPC"/>
              </a:rPr>
              <a:t>Δ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 if 1.00 mol OH- reacts with 1.00 mol H+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SOLU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407880" y="1554120"/>
            <a:ext cx="8583840" cy="457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4300560" y="3727440"/>
            <a:ext cx="798480" cy="369720"/>
          </a:xfrm>
          <a:prstGeom prst="rect">
            <a:avLst/>
          </a:prstGeom>
          <a:solidFill>
            <a:srgbClr val="d4dad6"/>
          </a:solidFill>
          <a:ln w="26280">
            <a:solidFill>
              <a:srgbClr val="d4da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2865600"/>
            <a:ext cx="970200" cy="369720"/>
          </a:xfrm>
          <a:prstGeom prst="rect">
            <a:avLst/>
          </a:prstGeom>
          <a:solidFill>
            <a:srgbClr val="d4dad6"/>
          </a:solidFill>
          <a:ln w="26280">
            <a:solidFill>
              <a:srgbClr val="d4da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THERMOCHEMICAL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7720" y="1599840"/>
            <a:ext cx="843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A chemical equation that includes the amount of heat produced or absorbed during the reaction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thermochemical equ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Exothermic Reactio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heat of reac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explains the heat released or absorbed during a chemical reaction (the change in enthalpy,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rcRect l="0" t="60515" r="2235" b="8695"/>
          <a:stretch/>
        </p:blipFill>
        <p:spPr>
          <a:xfrm>
            <a:off x="1136520" y="5345280"/>
            <a:ext cx="6542280" cy="80784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"/>
          <p:cNvGrpSpPr/>
          <p:nvPr/>
        </p:nvGrpSpPr>
        <p:grpSpPr>
          <a:xfrm>
            <a:off x="2233440" y="2646360"/>
            <a:ext cx="4824720" cy="808200"/>
            <a:chOff x="2233440" y="2646360"/>
            <a:chExt cx="4824720" cy="808200"/>
          </a:xfrm>
        </p:grpSpPr>
        <p:pic>
          <p:nvPicPr>
            <p:cNvPr id="274" name="Picture 4" descr=""/>
            <p:cNvPicPr/>
            <p:nvPr/>
          </p:nvPicPr>
          <p:blipFill>
            <a:blip r:embed="rId2"/>
            <a:srcRect l="0" t="60515" r="44635" b="8695"/>
            <a:stretch/>
          </p:blipFill>
          <p:spPr>
            <a:xfrm>
              <a:off x="2233440" y="2646360"/>
              <a:ext cx="370584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1"/>
            <p:cNvSpPr/>
            <p:nvPr/>
          </p:nvSpPr>
          <p:spPr>
            <a:xfrm>
              <a:off x="5856480" y="286560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6541e"/>
                  </a:solidFill>
                  <a:latin typeface="Arial"/>
                  <a:ea typeface="Arial"/>
                </a:rPr>
                <a:t>+ 2220 kJ</a:t>
              </a:r>
              <a:endParaRPr b="1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76" name="TextBox 3"/>
          <p:cNvSpPr/>
          <p:nvPr/>
        </p:nvSpPr>
        <p:spPr>
          <a:xfrm>
            <a:off x="436680" y="3686040"/>
            <a:ext cx="8601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Endothermic Reaction   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N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N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3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s) + 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(l) +  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26.2KJ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--&gt; N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H(aq) + HN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3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aq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7" name="TextBox 7" descr=""/>
          <p:cNvPicPr/>
          <p:nvPr/>
        </p:nvPicPr>
        <p:blipFill>
          <a:blip r:embed="rId3"/>
          <a:stretch/>
        </p:blipFill>
        <p:spPr>
          <a:xfrm>
            <a:off x="1036800" y="6072120"/>
            <a:ext cx="7759440" cy="69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THERMOCHEMICAL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599840"/>
            <a:ext cx="922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47600" indent="-147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heat of reaction for the complete burning of one mole of a substance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 heat of combus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heat absorbed by one mole of a substance while melting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molar heat of fusion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(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u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lost when one mole of a substance freezes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solidific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MS Mincho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olid</a:t>
            </a:r>
            <a:r>
              <a:rPr b="0" lang="en-US" sz="28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absorbed when one mole of a substances vaporizes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vaporization 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vap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absorbed when one mole of a substances condenses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condensation 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cond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change caused by dissolution of one mole of a substanc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solu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MS Mincho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oln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MOLAR HEAT CALCUL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heat of combustion of methane is -890KJ/mol.  How much heat is released when 45g of methane are combusted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2" name="TextBox 3" descr=""/>
          <p:cNvPicPr/>
          <p:nvPr/>
        </p:nvPicPr>
        <p:blipFill>
          <a:blip r:embed="rId1"/>
          <a:stretch/>
        </p:blipFill>
        <p:spPr>
          <a:xfrm>
            <a:off x="1755720" y="2517840"/>
            <a:ext cx="4962600" cy="9874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685800" y="4343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ow much heat would be required to melt 523g of osmium is its molar heat of fusion is 31.79 KJ/mol?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4" name="TextBox 6" descr=""/>
          <p:cNvPicPr/>
          <p:nvPr/>
        </p:nvPicPr>
        <p:blipFill>
          <a:blip r:embed="rId2"/>
          <a:stretch/>
        </p:blipFill>
        <p:spPr>
          <a:xfrm>
            <a:off x="1749600" y="5413320"/>
            <a:ext cx="4522680" cy="9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otentially Useful Inform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water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fus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= 6.01 KJ/mo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vap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= 40.7 KJ/mo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What about…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solid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cond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PHASE CHANGES AND ENTHALP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8" name="Picture 6" descr="aim10"/>
          <p:cNvPicPr/>
          <p:nvPr/>
        </p:nvPicPr>
        <p:blipFill>
          <a:blip r:embed="rId1"/>
          <a:stretch/>
        </p:blipFill>
        <p:spPr>
          <a:xfrm>
            <a:off x="457200" y="2808360"/>
            <a:ext cx="8191440" cy="4038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4898520" y="4122720"/>
            <a:ext cx="222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vap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= 40.7 KJ/mol</a:t>
            </a:r>
            <a:endParaRPr b="1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013120" y="5979960"/>
            <a:ext cx="57780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1447920" y="5796000"/>
            <a:ext cx="2685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u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= 6.01 KJ/mol</a:t>
            </a:r>
            <a:endParaRPr b="1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318320" y="5800680"/>
            <a:ext cx="50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34"/>
                </a:solidFill>
                <a:latin typeface="Arial"/>
              </a:rPr>
              <a:t>solid</a:t>
            </a:r>
            <a:endParaRPr b="1" lang="en-US" sz="11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628560" y="16002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o calculate the amount of heat absorbed or released as a substance changes state, q=mc</a:t>
            </a: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 for pure states and molar heats for phase changes.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5095800" y="29448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WATER</a:t>
            </a:r>
            <a:endParaRPr b="1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ample Problem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lculate the total enthalpy change when 42.0 grams of ice at -10</a:t>
            </a:r>
            <a:r>
              <a:rPr b="0" lang="en-US" sz="2400" spc="-1" strike="noStrike" baseline="30000">
                <a:solidFill>
                  <a:srgbClr val="292934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 is warmed to water at 20</a:t>
            </a:r>
            <a:r>
              <a:rPr b="0" lang="en-US" sz="2400" spc="-1" strike="noStrike" baseline="30000">
                <a:solidFill>
                  <a:srgbClr val="292934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SS’S LA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5960" indent="-1659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Hess’s law of heat summ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states that if you add two or more thermochemical equations to give a final equation, then you can also add the heat changes to give the final heat chang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956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1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1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EXAMP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the value of  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/kJ for the following reaction using the listed thermochemical equation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                                  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 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2 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l)        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4 H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g)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F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       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 HF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g)  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/kJ = - 542 kJ</a:t>
            </a: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          2 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      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 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l)  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/kJ = - 572 kJ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99" name="Straight Arrow Connector 2"/>
          <p:cNvCxnSpPr/>
          <p:nvPr/>
        </p:nvCxnSpPr>
        <p:spPr>
          <a:xfrm>
            <a:off x="4422240" y="3885840"/>
            <a:ext cx="305640" cy="1080"/>
          </a:xfrm>
          <a:prstGeom prst="straightConnector1">
            <a:avLst/>
          </a:prstGeom>
          <a:ln w="12600">
            <a:solidFill>
              <a:srgbClr val="22210c"/>
            </a:solidFill>
            <a:miter/>
            <a:tailEnd len="med" type="arrow" w="med"/>
          </a:ln>
        </p:spPr>
      </p:cxnSp>
      <p:cxnSp>
        <p:nvCxnSpPr>
          <p:cNvPr id="300" name="Straight Arrow Connector 5"/>
          <p:cNvCxnSpPr/>
          <p:nvPr/>
        </p:nvCxnSpPr>
        <p:spPr>
          <a:xfrm>
            <a:off x="3476160" y="4647960"/>
            <a:ext cx="305640" cy="1080"/>
          </a:xfrm>
          <a:prstGeom prst="straightConnector1">
            <a:avLst/>
          </a:prstGeom>
          <a:ln w="12600">
            <a:solidFill>
              <a:srgbClr val="22210c"/>
            </a:solidFill>
            <a:miter/>
            <a:tailEnd len="med" type="arrow" w="med"/>
          </a:ln>
        </p:spPr>
      </p:cxnSp>
      <p:cxnSp>
        <p:nvCxnSpPr>
          <p:cNvPr id="301" name="Straight Arrow Connector 6"/>
          <p:cNvCxnSpPr/>
          <p:nvPr/>
        </p:nvCxnSpPr>
        <p:spPr>
          <a:xfrm>
            <a:off x="3459240" y="4343040"/>
            <a:ext cx="305280" cy="1080"/>
          </a:xfrm>
          <a:prstGeom prst="straightConnector1">
            <a:avLst/>
          </a:prstGeom>
          <a:ln w="12600">
            <a:solidFill>
              <a:srgbClr val="22210c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1601640" y="5029200"/>
            <a:ext cx="5996520" cy="875880"/>
            <a:chOff x="1601640" y="5029200"/>
            <a:chExt cx="5996520" cy="875880"/>
          </a:xfrm>
        </p:grpSpPr>
        <p:sp>
          <p:nvSpPr>
            <p:cNvPr id="303" name="TextBox 3"/>
            <p:cNvSpPr/>
            <p:nvPr/>
          </p:nvSpPr>
          <p:spPr>
            <a:xfrm>
              <a:off x="1601640" y="5029200"/>
              <a:ext cx="5996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        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2 H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g)  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	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30000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/kJ = - 542 kJ</a:t>
              </a:r>
              <a:br>
                <a:rPr sz="2400"/>
              </a:b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cxnSp>
          <p:nvCxnSpPr>
            <p:cNvPr id="304" name="Straight Arrow Connector 9"/>
            <p:cNvCxnSpPr/>
            <p:nvPr/>
          </p:nvCxnSpPr>
          <p:spPr>
            <a:xfrm>
              <a:off x="3550320" y="5257440"/>
              <a:ext cx="305280" cy="1080"/>
            </a:xfrm>
            <a:prstGeom prst="straightConnector1">
              <a:avLst/>
            </a:prstGeom>
            <a:ln w="12600">
              <a:solidFill>
                <a:srgbClr val="22210c"/>
              </a:solidFill>
              <a:miter/>
              <a:tailEnd len="med" type="arrow" w="med"/>
            </a:ln>
          </p:spPr>
        </p:cxnSp>
      </p:grpSp>
      <p:sp>
        <p:nvSpPr>
          <p:cNvPr id="305" name="Straight Connector 7"/>
          <p:cNvSpPr/>
          <p:nvPr/>
        </p:nvSpPr>
        <p:spPr>
          <a:xfrm>
            <a:off x="2254320" y="5867280"/>
            <a:ext cx="4876560" cy="0"/>
          </a:xfrm>
          <a:prstGeom prst="line">
            <a:avLst/>
          </a:prstGeom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06" name="Group 16"/>
          <p:cNvGrpSpPr/>
          <p:nvPr/>
        </p:nvGrpSpPr>
        <p:grpSpPr>
          <a:xfrm>
            <a:off x="1131480" y="5497560"/>
            <a:ext cx="6987240" cy="875880"/>
            <a:chOff x="1131480" y="5497560"/>
            <a:chExt cx="6987240" cy="875880"/>
          </a:xfrm>
        </p:grpSpPr>
        <p:cxnSp>
          <p:nvCxnSpPr>
            <p:cNvPr id="307" name="Straight Arrow Connector 8"/>
            <p:cNvCxnSpPr/>
            <p:nvPr/>
          </p:nvCxnSpPr>
          <p:spPr>
            <a:xfrm>
              <a:off x="3513600" y="5714280"/>
              <a:ext cx="305280" cy="1080"/>
            </a:xfrm>
            <a:prstGeom prst="straightConnector1">
              <a:avLst/>
            </a:prstGeom>
            <a:ln w="12600">
              <a:solidFill>
                <a:srgbClr val="22210c"/>
              </a:solidFill>
              <a:miter/>
              <a:tailEnd len="med" type="arrow" w="med"/>
            </a:ln>
          </p:spPr>
        </p:cxnSp>
        <p:sp>
          <p:nvSpPr>
            <p:cNvPr id="308" name="TextBox 11"/>
            <p:cNvSpPr/>
            <p:nvPr/>
          </p:nvSpPr>
          <p:spPr>
            <a:xfrm>
              <a:off x="1131480" y="5497560"/>
              <a:ext cx="6987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2 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l)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     2 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	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30000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/kJ = + 572 kJ</a:t>
              </a: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09" name="Straight Connector 18"/>
          <p:cNvSpPr/>
          <p:nvPr/>
        </p:nvSpPr>
        <p:spPr>
          <a:xfrm flipH="1">
            <a:off x="2457360" y="5105520"/>
            <a:ext cx="152640" cy="260280"/>
          </a:xfrm>
          <a:prstGeom prst="line">
            <a:avLst/>
          </a:prstGeom>
          <a:ln w="1908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Straight Connector 22"/>
          <p:cNvSpPr/>
          <p:nvPr/>
        </p:nvSpPr>
        <p:spPr>
          <a:xfrm flipH="1">
            <a:off x="4038480" y="5584680"/>
            <a:ext cx="152640" cy="260640"/>
          </a:xfrm>
          <a:prstGeom prst="line">
            <a:avLst/>
          </a:prstGeom>
          <a:ln w="1908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11" name="Group 21"/>
          <p:cNvGrpSpPr/>
          <p:nvPr/>
        </p:nvGrpSpPr>
        <p:grpSpPr>
          <a:xfrm>
            <a:off x="720000" y="6005520"/>
            <a:ext cx="7257960" cy="748800"/>
            <a:chOff x="720000" y="6005520"/>
            <a:chExt cx="7257960" cy="748800"/>
          </a:xfrm>
        </p:grpSpPr>
        <p:sp>
          <p:nvSpPr>
            <p:cNvPr id="312" name="TextBox 20"/>
            <p:cNvSpPr/>
            <p:nvPr/>
          </p:nvSpPr>
          <p:spPr>
            <a:xfrm>
              <a:off x="720000" y="6005520"/>
              <a:ext cx="725796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2 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2 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l)        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4 H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    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30000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/kJ = +30 kJ</a:t>
              </a: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  </a:t>
              </a:r>
              <a:r>
                <a:rPr b="1" lang="en-US" sz="18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</a:t>
              </a:r>
              <a:endParaRPr b="1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cxnSp>
          <p:nvCxnSpPr>
            <p:cNvPr id="313" name="Straight Arrow Connector 24"/>
            <p:cNvCxnSpPr/>
            <p:nvPr/>
          </p:nvCxnSpPr>
          <p:spPr>
            <a:xfrm>
              <a:off x="3466080" y="6171840"/>
              <a:ext cx="305280" cy="1080"/>
            </a:xfrm>
            <a:prstGeom prst="straightConnector1">
              <a:avLst/>
            </a:prstGeom>
            <a:ln w="12600">
              <a:solidFill>
                <a:srgbClr val="22210c"/>
              </a:solidFill>
              <a:miter/>
              <a:tailEnd len="med" type="arrow" w="med"/>
            </a:ln>
          </p:spPr>
        </p:cxnSp>
      </p:grp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STANDARD HEATS OF FORM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standard heat of form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) of a compound is the change in enthalpy that accompanies the formation of one mole of the compound from its elements with all substances in their standard states at 25 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For free elements 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°=  0 in their standard stat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Standard heat of reaction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△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H°= </a:t>
            </a: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(products)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- </a:t>
            </a: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(reactants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MS Mincho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MS Mincho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*Page 530 – standard heats of formation tab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NERG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Thermochemistry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is the study of the heat changes that occur during chemical reactions and physical changes of sta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Heat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(q) is a form of energy that always flows from a warmer object to a cooler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Energy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s the capacity to do work or to supply hea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Kinetic energy and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Chemical Potential Energ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energy stored in chemicals because of their composi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3" name="Picture 7" descr="MCj04136240000[1]"/>
          <p:cNvPicPr/>
          <p:nvPr/>
        </p:nvPicPr>
        <p:blipFill>
          <a:blip r:embed="rId1"/>
          <a:stretch/>
        </p:blipFill>
        <p:spPr>
          <a:xfrm>
            <a:off x="914400" y="4495680"/>
            <a:ext cx="1293840" cy="194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XAMP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the heat of reaction (kJ) using the listed heats of formation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g) + 4 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g)      C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g) + 4 HF(g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C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= -74.86 kJ/mole</a:t>
            </a: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CF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= -925.0 kJ/mole</a:t>
            </a: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HF = -271.1 kJ/mole</a:t>
            </a:r>
            <a:br>
              <a:rPr sz="2600"/>
            </a:br>
            <a:br>
              <a:rPr sz="2600"/>
            </a:b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3885840" y="2209320"/>
            <a:ext cx="229320" cy="1080"/>
          </a:xfrm>
          <a:prstGeom prst="straightConnector1">
            <a:avLst/>
          </a:prstGeom>
          <a:ln w="28440">
            <a:solidFill>
              <a:srgbClr val="292934"/>
            </a:solidFill>
            <a:miter/>
            <a:tailEnd len="med" type="triangle" w="med"/>
          </a:ln>
        </p:spPr>
      </p:cxnSp>
      <p:sp>
        <p:nvSpPr>
          <p:cNvPr id="319" name="TextBox 3"/>
          <p:cNvSpPr/>
          <p:nvPr/>
        </p:nvSpPr>
        <p:spPr>
          <a:xfrm>
            <a:off x="-1930680" y="3886200"/>
            <a:ext cx="129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= ((-925kJ/mol) + (4moles x -271.1kJ/mol)) </a:t>
            </a:r>
            <a:r>
              <a:rPr b="0" lang="en-US" sz="4000" spc="-1" strike="noStrike">
                <a:solidFill>
                  <a:srgbClr val="292934"/>
                </a:solidFill>
                <a:latin typeface="BrowalliaUPC"/>
                <a:ea typeface="BrowalliaUPC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((1 mole x -74.86kJ/mol) + (1 x 0)) =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1935kJ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NERG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Remember the law of conservation of energy?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n any chemical or physical process, energy is neither created nor destroy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All energy can be accounted for as work, stored energy, or heat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026360" y="2685960"/>
            <a:ext cx="77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System    +   Surroundings  =  Universe</a:t>
            </a:r>
            <a:endParaRPr b="1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5" descr="http://www.scottslumber.com/uploads/images/Condensation/Glass%20Condensatio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77160" y="4354560"/>
            <a:ext cx="1587240" cy="2376360"/>
          </a:xfrm>
          <a:prstGeom prst="rect">
            <a:avLst/>
          </a:prstGeom>
          <a:ln w="38160">
            <a:solidFill>
              <a:srgbClr val="6b7d72"/>
            </a:solidFill>
            <a:miter/>
          </a:ln>
        </p:spPr>
      </p:pic>
      <p:pic>
        <p:nvPicPr>
          <p:cNvPr id="228" name="Picture 7" descr="http://www.nc-climate.ncsu.edu/secc_edu/images/WhatMakesClouds3.jpg">
            <a:hlinkClick r:id="rId3"/>
          </p:cNvPr>
          <p:cNvPicPr/>
          <p:nvPr/>
        </p:nvPicPr>
        <p:blipFill>
          <a:blip r:embed="rId4"/>
          <a:srcRect l="0" t="0" r="0" b="4811"/>
          <a:stretch/>
        </p:blipFill>
        <p:spPr>
          <a:xfrm>
            <a:off x="1600200" y="4354560"/>
            <a:ext cx="3616200" cy="2363760"/>
          </a:xfrm>
          <a:prstGeom prst="rect">
            <a:avLst/>
          </a:prstGeom>
          <a:ln w="38160">
            <a:solidFill>
              <a:srgbClr val="6b7d72"/>
            </a:solidFill>
            <a:miter/>
          </a:ln>
        </p:spPr>
      </p:pic>
      <p:sp>
        <p:nvSpPr>
          <p:cNvPr id="229" name="TextBox 2"/>
          <p:cNvSpPr/>
          <p:nvPr/>
        </p:nvSpPr>
        <p:spPr>
          <a:xfrm>
            <a:off x="920880" y="3214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Any specific part of the universe that attention is focused on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807000" y="320976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Includes everything outside the system.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7162920" y="3192480"/>
            <a:ext cx="13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onstant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9680" y="3962520"/>
            <a:ext cx="7972200" cy="213336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80880" y="1295280"/>
            <a:ext cx="8001000" cy="221004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HAN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4960" y="1538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3926"/>
                </a:solidFill>
                <a:latin typeface="BrowalliaUPC"/>
                <a:ea typeface="BrowalliaUPC"/>
              </a:rPr>
              <a:t>Endothermic Process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A process that absorbs heat from the surrou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876920" y="160344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urroundings cool dow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ystem heats u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hange &gt; 0 (positive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33520" y="4191120"/>
            <a:ext cx="403848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3926"/>
                </a:solidFill>
                <a:latin typeface="BrowalliaUPC"/>
                <a:ea typeface="BrowalliaUPC"/>
              </a:rPr>
              <a:t>Endothermic Process</a:t>
            </a:r>
            <a:endParaRPr b="1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A process that loses heat to the surroundings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572000" y="4343400"/>
            <a:ext cx="40384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urroundings heat up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ystem cools down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hange &lt; 0 (negative)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APAC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SI unit of heat (q) and energy (E)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joule (J)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amount of heat it takes to change an object’s temperature by 1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ºC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heat capacity</a:t>
            </a:r>
            <a:r>
              <a:rPr b="0" lang="en-US" sz="2400" spc="-1" strike="noStrike">
                <a:solidFill>
                  <a:srgbClr val="a53926"/>
                </a:solidFill>
                <a:latin typeface="BrowalliaUPC"/>
                <a:ea typeface="MS Mincho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(J/ºC) of that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amount of heat that it takes to change the temperature of 1g of a substance by 1ºC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specific heat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of that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One calorie is the quantity of heat that raises the temperature of 1 gram of water 1º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1" lang="en-US" sz="3000" spc="-1" strike="noStrike">
                <a:solidFill>
                  <a:srgbClr val="a53926"/>
                </a:solidFill>
                <a:latin typeface="BrowalliaUPC"/>
                <a:ea typeface="MS Mincho"/>
              </a:rPr>
              <a:t>1 Calorie = 1000 calories and 1 Joule = 0.239 cal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trinifieds.com/classifieds/wp-content/uploads/classipress/3-used-steel-beams-287692874.png"/>
          <p:cNvPicPr/>
          <p:nvPr/>
        </p:nvPicPr>
        <p:blipFill>
          <a:blip r:embed="rId1"/>
          <a:stretch/>
        </p:blipFill>
        <p:spPr>
          <a:xfrm>
            <a:off x="4164120" y="4332240"/>
            <a:ext cx="2606400" cy="2057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APACITY VS. SPECIFIC HE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1371240"/>
            <a:ext cx="3429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apacity </a:t>
            </a: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MS Mincho"/>
              </a:rPr>
              <a:t>(J/ºC)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amount of heat it would take to raise the temperature of a sample of a substance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BrowalliaUPC"/>
                <a:ea typeface="BrowalliaUPC"/>
              </a:rPr>
              <a:t>Dependent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n Mas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t would take much more heat to raise the temperature of a steel girder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 than it would to raise the temperature of a steel nail by the same amou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303800" y="6049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200 kg = 1 x 10</a:t>
            </a:r>
            <a:r>
              <a:rPr b="1" lang="en-US" sz="1800" spc="-1" strike="noStrike" baseline="30000">
                <a:solidFill>
                  <a:srgbClr val="292934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J 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4343400" y="1143000"/>
            <a:ext cx="4648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Specific Heat (J/g</a:t>
            </a:r>
            <a:r>
              <a:rPr b="1" lang="en-US" sz="8800" spc="-1" strike="noStrike" baseline="8000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r>
              <a:rPr b="1" lang="en-US" sz="32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C)</a:t>
            </a:r>
            <a:endParaRPr b="1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amount of heat it would take to raise the temperature of a 1g of a substance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BrowalliaUPC"/>
                <a:ea typeface="BrowalliaUPC"/>
              </a:rPr>
              <a:t>Independent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of mass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specific heat of steel is about 0.5 J/g</a:t>
            </a:r>
            <a:r>
              <a:rPr b="0" lang="en-US" sz="6000" spc="-1" strike="noStrike" baseline="8000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4" descr="http://www.woodiesdiy.com/images/productImages/Zoom/2.5mm_Blue_Hardened_Oval_Head_Steel_Nails.jpg"/>
          <p:cNvPicPr/>
          <p:nvPr/>
        </p:nvPicPr>
        <p:blipFill>
          <a:blip r:embed="rId2"/>
          <a:stretch/>
        </p:blipFill>
        <p:spPr>
          <a:xfrm>
            <a:off x="6053040" y="5321160"/>
            <a:ext cx="592200" cy="5922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6350040" y="558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.002 kg = 1J  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533520" y="2209680"/>
            <a:ext cx="3581280" cy="388620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APACITY VS. SPECIFIC HEAT PROBLEM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604520"/>
            <a:ext cx="37335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apacity (J/</a:t>
            </a:r>
            <a:r>
              <a:rPr b="1" lang="en-US" sz="32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C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ow much heat is required to raise 150g of silver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Specific Heat of Ag is 0.24J/g</a:t>
            </a:r>
            <a:r>
              <a:rPr b="0" lang="en-US" sz="7200" spc="-1" strike="noStrike" baseline="8000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1" name="TextBox 3" descr=""/>
          <p:cNvPicPr/>
          <p:nvPr/>
        </p:nvPicPr>
        <p:blipFill>
          <a:blip r:embed="rId1"/>
          <a:stretch/>
        </p:blipFill>
        <p:spPr>
          <a:xfrm>
            <a:off x="974880" y="4834080"/>
            <a:ext cx="2579400" cy="749160"/>
          </a:xfrm>
          <a:prstGeom prst="rect">
            <a:avLst/>
          </a:prstGeom>
          <a:ln w="0">
            <a:noFill/>
          </a:ln>
        </p:spPr>
      </p:pic>
      <p:pic>
        <p:nvPicPr>
          <p:cNvPr id="252" name="Content Placeholder 2" descr=""/>
          <p:cNvPicPr/>
          <p:nvPr/>
        </p:nvPicPr>
        <p:blipFill>
          <a:blip r:embed="rId2"/>
          <a:stretch/>
        </p:blipFill>
        <p:spPr>
          <a:xfrm>
            <a:off x="4340160" y="1530360"/>
            <a:ext cx="427356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4648320" y="2209680"/>
            <a:ext cx="3581280" cy="383724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4800600" y="22176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What is the specific heat of silver if takes 36J to increase a 150g sample of silver from 25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 to 26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?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TextBox 9" descr=""/>
          <p:cNvPicPr/>
          <p:nvPr/>
        </p:nvPicPr>
        <p:blipFill>
          <a:blip r:embed="rId3"/>
          <a:stretch/>
        </p:blipFill>
        <p:spPr>
          <a:xfrm>
            <a:off x="5924520" y="3736800"/>
            <a:ext cx="1177920" cy="56052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10" descr=""/>
          <p:cNvPicPr/>
          <p:nvPr/>
        </p:nvPicPr>
        <p:blipFill>
          <a:blip r:embed="rId4"/>
          <a:stretch/>
        </p:blipFill>
        <p:spPr>
          <a:xfrm>
            <a:off x="5035680" y="4857840"/>
            <a:ext cx="3181320" cy="66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CALORIMETR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Calorimetry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s the accurate and precise measurement of the heat change for chemical and physical process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enthalpy</a:t>
            </a:r>
            <a:r>
              <a:rPr b="0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hange (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), is the heat change(q) for a process at constant pressu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 = △H = mC△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9" name="Picture 8" descr="p0013037-calorimeter"/>
          <p:cNvPicPr/>
          <p:nvPr/>
        </p:nvPicPr>
        <p:blipFill>
          <a:blip r:embed="rId1"/>
          <a:stretch/>
        </p:blipFill>
        <p:spPr>
          <a:xfrm>
            <a:off x="5334120" y="2133720"/>
            <a:ext cx="3601800" cy="36018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5562720" y="1633680"/>
            <a:ext cx="34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            </a:t>
            </a: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Constant Volume Calorimetry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1" name="Picture 5" descr="http://t2.gstatic.com/images?q=tbn:ANd9GcSSoaN4-PLuglik8kQT18yIqz0C9Jc5sM_qHizSYzWgtkNNSEcP5A"/>
          <p:cNvPicPr/>
          <p:nvPr/>
        </p:nvPicPr>
        <p:blipFill>
          <a:blip r:embed="rId2"/>
          <a:stretch/>
        </p:blipFill>
        <p:spPr>
          <a:xfrm>
            <a:off x="2819520" y="3930480"/>
            <a:ext cx="178416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CALORIMETRY CALCUL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o measure heat changes using calorimetry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1.  Measure initial temperature of water (SURROUNDING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.  Perform reaction inside insulated contain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3.  Record final water temperatu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4.  Use specific heat of water to measure enthalpy change with the formul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y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=△H= </a:t>
            </a:r>
            <a:r>
              <a:rPr b="0" lang="en-US" sz="3200" spc="-1" strike="noStrike">
                <a:solidFill>
                  <a:srgbClr val="292934"/>
                </a:solidFill>
                <a:latin typeface="BrowalliaUPC"/>
                <a:ea typeface="MS Mincho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ur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= </a:t>
            </a:r>
            <a:r>
              <a:rPr b="0" lang="en-US" sz="3200" spc="-1" strike="noStrike">
                <a:solidFill>
                  <a:srgbClr val="292934"/>
                </a:solidFill>
                <a:latin typeface="BrowalliaUPC"/>
                <a:ea typeface="MS Mincho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mC△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For endothermic reaction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y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positive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ur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negativ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For exothermic reaction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y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negative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ur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positiv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05:45Z</dcterms:created>
  <dc:creator>udsd</dc:creator>
  <dc:description/>
  <dc:language>en-US</dc:language>
  <cp:lastModifiedBy>Dawn</cp:lastModifiedBy>
  <dcterms:modified xsi:type="dcterms:W3CDTF">2013-06-02T23:14:39Z</dcterms:modified>
  <cp:revision>98</cp:revision>
  <dc:subject/>
  <dc:title>Slide 1</dc:title>
</cp:coreProperties>
</file>